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023-9BB4-42B3-9BDF-39B5373A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3DB-2C5C-4AD0-95BC-45CC525A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702-7B50-4DC2-9CB2-7200A236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08A-A8A6-4222-AC59-C342153B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D5F-81BB-405A-85F3-7CD96D29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6AD-87B5-4E6F-BFD0-72249732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02F-32AA-40C2-90C2-B3971874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C69-90F5-420D-862F-A4C6A4C2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2CE-CFEA-4E9D-8550-C2AC8C89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3D5-8C60-4585-92E4-A71AAC5A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A99-62C7-407A-A996-167A4A76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91D-AA40-4107-93C3-9AF79811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DFB6-B25A-4A7F-A904-DEF2F301C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4 Príď, Svätý Duchu, 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ď, Svätý Duchu, k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lam viery roznieť v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ahozvesť vzácn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niesť a šíriť svetl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Svätý Duchu,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ej do sŕdc vrúcny c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by pre dielo záchra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mohol zjedno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Svätý Duchu,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i vždy máme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teba žiadny sveta zvo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nemá odlúč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Svätý Duchu,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osti stálosť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si v nás z lásky započ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slávne dokona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0:15:20Z</dcterms:modified>
  <cp:revision>19</cp:revision>
  <dc:subject/>
  <dc:title>Je veľký náš Pán, on slávy je Kráľ Nech do všetkých strán  spev vrúcnych znie chvál.</dc:title>
</cp:coreProperties>
</file>